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047F-A9DE-4EDB-8F6E-67630806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24A-E1A3-496B-A915-9C7F9CC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6B3-2723-4250-8973-579B9F6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6AD-74A4-4715-9C7F-38265EC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D65-F2B1-495C-A928-DE3EC51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265-6B49-41B9-B2CF-24ED54C2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64B-70AB-4F82-982E-C806CAD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1EE-63B7-4BA1-9DCF-7C53EFA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20A-ED4F-488D-A137-76314BE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795-54DC-4704-B506-1A19C7D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3A5-3AC0-403F-91D7-569EDF26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C10-5603-4C7D-A80C-8A417521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" cy="6858000"/>
            <a:chOff x="0" y="0"/>
            <a:chExt cx="9144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4680" y="0"/>
              <a:ext cx="90972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1752480"/>
              <a:ext cx="914400" cy="51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-907920" y="266688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05000" y="1008000"/>
            <a:ext cx="7772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05000" y="1008000"/>
            <a:ext cx="777240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82080" y="6323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 de Maio de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dro Guedes de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75980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CF7-D6E1-48F2-B2B2-8A09ADF9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90360" y="914040"/>
            <a:ext cx="7677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65440" y="1243440"/>
            <a:ext cx="702756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Arial"/>
              </a:rPr>
              <a:t>Integração de sensor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Arial"/>
              </a:rPr>
              <a:t>na plataforma “Rasteirinho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GillSans Light"/>
              </a:rPr>
              <a:t>Marco Barb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elson Ra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55960" y="317520"/>
            <a:ext cx="48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stemas de Automação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05000" y="274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050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celerómetro tem que ter muito pouco ruído mas principalmente a média do ruído tem que ser n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vido à dupla integração qualquer ruído tem um efeito de memória que irá afectar a odometria para semp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 bússola com um erro de 1º pode ser usada para odometria visto que é uma medida direc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É necessário uma solução de odometria com base em medições nas rodas para ter um bom controlo de baixo-ní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05000" y="274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05000" y="2045880"/>
            <a:ext cx="810576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2724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undamentos Teó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66840" y="1508040"/>
                <a:ext cx="37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66840" y="2689200"/>
                <a:ext cx="1913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ússol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3198960"/>
                <a:ext cx="8226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80960" y="5145120"/>
                <a:ext cx="543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bo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bo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0960" y="5608800"/>
                <a:ext cx="54547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bo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bot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225800" y="1239480"/>
            <a:ext cx="62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4680" y="2391840"/>
            <a:ext cx="701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66480" y="3559680"/>
            <a:ext cx="22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9160" y="4887360"/>
            <a:ext cx="533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992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66840" y="3736800"/>
                <a:ext cx="8410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bot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684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050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bjectivo de integrar dois novos sensor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Bússo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celerómet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Fusão dos dados para obtenção de odomet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724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undamentos Teó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80600" y="1600200"/>
            <a:ext cx="802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dometria é um dos métodos utilizados para estimar a posição de um rob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89120" y="3467160"/>
                <a:ext cx="33415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und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176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11360" y="4427640"/>
                <a:ext cx="5721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i</m:t>
                                    </m:r>
                                  </m: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sSub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undo</m:t>
                                            </m:r>
                                          </m:sub>
                                        </m:sSub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7240" y="274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Fundamentos Teó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55840" y="1508040"/>
                <a:ext cx="37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95440" y="3121200"/>
                <a:ext cx="2419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ússol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19120" y="4465800"/>
                <a:ext cx="76042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undo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ndo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bot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225800" y="1239480"/>
            <a:ext cx="62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4680" y="2391840"/>
            <a:ext cx="701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92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0040" y="3198960"/>
            <a:ext cx="1152360" cy="461880"/>
          </a:xfrm>
          <a:prstGeom prst="rect">
            <a:avLst/>
          </a:prstGeom>
          <a:solidFill>
            <a:srgbClr val="eaeaea">
              <a:alpha val="25000"/>
            </a:srgbClr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48400" y="4502160"/>
            <a:ext cx="1536840" cy="577800"/>
          </a:xfrm>
          <a:prstGeom prst="rect">
            <a:avLst/>
          </a:prstGeom>
          <a:solidFill>
            <a:srgbClr val="eaeaea">
              <a:alpha val="25000"/>
            </a:srgbClr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6480" y="3505320"/>
            <a:ext cx="99864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3313080"/>
            <a:ext cx="311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or lido da búss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56600" y="5195880"/>
            <a:ext cx="0" cy="53820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26120" y="5886360"/>
            <a:ext cx="241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a integração do aceleró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684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mplementação: Acelerómetro e Búss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8760" y="1600200"/>
            <a:ext cx="799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celerómetro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inal analógico de cada eixo medido directamente com o DA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Bússola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nstrução de filtro passa-baixo para converter sinal PWM num sinal analóg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ostragem do sinal PWM a 10K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05000" y="274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: Aceleróme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04640" y="1599840"/>
            <a:ext cx="625932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ído sem média n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a em grandes erros devido à dupla integra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iabilizou atingir resultados aceitáveis para a odomet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ão alternativa: detecção de colisõ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24760" y="1047600"/>
            <a:ext cx="1486080" cy="2914560"/>
            <a:chOff x="8024760" y="1047600"/>
            <a:chExt cx="1486080" cy="2914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8110440" y="1047600"/>
              <a:ext cx="1314720" cy="23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024760" y="3390840"/>
              <a:ext cx="1486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stograma dados eixo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24760" y="3943440"/>
            <a:ext cx="1486080" cy="2914200"/>
            <a:chOff x="8024760" y="3943440"/>
            <a:chExt cx="1486080" cy="29142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8110440" y="3943440"/>
              <a:ext cx="1314720" cy="23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024760" y="6286320"/>
              <a:ext cx="1486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stograma dados eixo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04640" y="27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ados: Búss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6480" y="1600200"/>
            <a:ext cx="714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tro passa-baixo introduz variância muito grande (37º com o robô parad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stragem e processamento de sinal de PWM resulta nu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ção de 1 gra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ilitou implementa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uimento de direcçã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 um controlador P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35640" y="3467160"/>
            <a:ext cx="3543480" cy="3200040"/>
            <a:chOff x="6335640" y="3467160"/>
            <a:chExt cx="3543480" cy="32000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335640" y="3467160"/>
              <a:ext cx="348768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14440" y="6192000"/>
              <a:ext cx="3064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nal PWM à saída da bússola electrón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05000" y="274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Bússola: Seguimento de direc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ideo busso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05000" y="274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elerómetro: detecção de col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050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Video acelerómet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3:10:22Z</dcterms:created>
  <dc:creator>Maria Isabel Ribeiro</dc:creator>
  <dc:description/>
  <dc:language>en-US</dc:language>
  <cp:lastModifiedBy>-</cp:lastModifiedBy>
  <cp:lastPrinted>1998-11-11T07:51:40Z</cp:lastPrinted>
  <dcterms:modified xsi:type="dcterms:W3CDTF">2006-12-20T04:00:06Z</dcterms:modified>
  <cp:revision>586</cp:revision>
  <dc:subject/>
  <dc:title>No Slide Title</dc:title>
</cp:coreProperties>
</file>